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CD9-BB70-488E-97C6-886BC2A4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68D-40F8-46CE-921B-C6029B2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904-B262-448B-8C88-E2943072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E5F-D1AA-4DA1-BD2C-A0F8791B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0AA-419C-47D5-AADB-1EE447FA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5AD-DE00-4282-A6AA-BA5E3395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6E0-8148-4457-AE44-937BC116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5CF-042A-4835-A8CC-FD3B3CBC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D46-AE1A-4EB7-A907-57DB2DF3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E93-5B9D-4DE3-B61D-42DCF2F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61C-89AA-4890-9E41-040B2C4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B8E-E189-4665-A86C-133625A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A4DA-160F-4BE0-9B62-6A45F766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56000" y="3888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Engenharia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Bookman Old Style"/>
              </a:rPr>
              <a:t>Prospecção do Subsol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332000" y="391788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cânica dos Sol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6304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R 6484. A sondagem consiste essencialmente em dois tipos de operação: Perfuração e Amostr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027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ondagens de Simples Reconhec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08280"/>
            <a:ext cx="856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cima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ção do nível de águ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uração abaixo do nível de á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59280" y="2708280"/>
            <a:ext cx="4033800" cy="4011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5157720"/>
            <a:ext cx="6610320" cy="1247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6524640"/>
            <a:ext cx="460836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052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sistência à penetração é referida como o número N do SPT ou SPT do solo, sendo SPT as iniciais de “Standart Penetration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7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e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a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f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a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idade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ima de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compac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41720" y="2852640"/>
          <a:ext cx="3733920" cy="2465640"/>
        </p:xfrm>
        <a:graphic>
          <a:graphicData uri="http://schemas.openxmlformats.org/drawingml/2006/table">
            <a:tbl>
              <a:tblPr/>
              <a:tblGrid>
                <a:gridCol w="1454400"/>
                <a:gridCol w="2279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do S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rg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a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a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ênci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a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4dedc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50920" y="5734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função da resistência a penetração, o estado do solo é classificado pela compacidade (areia), ou pela consistência (argila ou silte argilo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981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istência à penetração – SPT – NBR 7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6120000" cy="3771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5616720"/>
            <a:ext cx="6135840" cy="1125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5364000" y="4951440"/>
            <a:ext cx="3600720" cy="398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sentação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67280" y="5157360"/>
            <a:ext cx="144360" cy="35892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5157720"/>
            <a:ext cx="216000" cy="7192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516280"/>
            <a:ext cx="144360" cy="36036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516640"/>
            <a:ext cx="395928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765000"/>
            <a:ext cx="6408720" cy="10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Prospecção do subs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Jose Rojas</cp:lastModifiedBy>
  <dcterms:modified xsi:type="dcterms:W3CDTF">2008-12-27T15:51:49Z</dcterms:modified>
  <cp:revision>120</cp:revision>
  <dc:subject/>
  <dc:title>Slide 1</dc:title>
</cp:coreProperties>
</file>